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8A6-209C-423F-89E2-95C36241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FBD-7A9C-4596-8893-1EB56BD6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6CB-3198-4742-8540-5FAFE505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774-E6D3-4080-8F31-2A569EBF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DF66-A9B5-4F4A-8997-2DD77D5C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560C-A25D-4B59-A20D-CC3DB556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B32E-C2C6-4F4E-AB83-0844281E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B69D-1FA8-43BA-BD35-6FA7279E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3306-F0A2-4359-B7D8-02173A82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B2C5-FD58-40D7-9567-3EF32471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A242-0D39-4871-862B-CC666E9C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6C7-79CF-40F4-A528-796094F8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9185-2C15-4A3F-ADDA-5FCFFB51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64A0-C6D8-426B-905B-C545F449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8161-106B-407C-ADD7-3CC70700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7B34-A0D4-4AB0-8017-1772FC5E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CDCC-57EA-4CF3-9A17-8ED78EEF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6AF9-64E7-490F-A6CD-F356B25F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F6814-AA7C-4DF0-9520-5D1273BC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6F8E-B746-460D-821C-4CDCE373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98A69-583F-4B9B-890E-921687F7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5B04-00B5-43B4-88CC-3A5D26CA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58F-ADD6-41A0-9DB4-C4ECE60C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521B-EE3A-441F-899C-5E19E94C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7793F-DA8B-4AD5-81AE-DB580814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A8A1-E775-4C7F-BA53-FE3D183C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FFEE-8D94-4D1A-A6A2-511DCA6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74C2-8504-415F-A105-A6456382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3CD9-B725-4594-B21C-6BF8A07D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91AA2-152A-440B-AE4F-50C3177D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C900A-DE01-4E2E-911F-FA8FFBC1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6C97A-50F6-45D5-AB68-D412BDFE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563B-8478-4599-9BA9-DEFFC1E9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339-FCF6-42A8-952C-E05E6216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C3D6-243D-439E-B788-3762DAB8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B46BF-87FB-45D7-9DA2-A72390D4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3DB6-3E9A-4E10-A3C3-3850D81D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E92D3-639C-44D9-9D77-117531DA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E9AAF-9218-48B0-8AF3-2886F729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D036-3236-441A-AA2D-3283B7E6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FA23F-B1F1-4E08-8FDF-19C4652F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251D-D726-4869-B52C-B38ECB92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16B2-0A6D-4AFC-8126-F6A8BE7C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E84D-9646-4CA8-BE16-6D7C6AA8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2E6-7B79-4FFA-A5AF-A86ADAE0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D84B6-6505-43D1-B8A1-54666ADF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38B78-A610-44D1-A245-34AEA366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1EA4B-87F1-46C3-B691-2F5E6E74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79CAE-FB2A-4F56-AE45-A0961D20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B946C-8A12-4CFB-8E09-868AD692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B2E98-A770-4741-BF52-C46CF9FA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42D4F-A5E1-4ABF-A162-C571513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7C291-C590-4D57-8253-9FD69F39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AE06A-CC66-4571-85DD-17DC3B3D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84CA3-71CC-4F5F-A187-588D0D05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028-5D8C-45CA-BD77-91A6C579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B9F66-B3C8-4F2E-8648-F8E8BCA7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625-A075-4E47-8F65-1020B9C2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12C-3FC4-4CE7-81BF-440B17A9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4C1-0A78-43EF-A1EB-C880CC68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A6A9-A405-42A4-9A82-573DE111945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E313-B710-4673-B5A8-6DBD3EB7B23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43F5-DB3D-43B6-8F66-6DD0A4F2F1F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107F-F722-4BED-B01A-C4095499F40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1B72-C974-41E9-913D-23BC6809AD0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dbf5f9"/>
                </a:solidFill>
                <a:latin typeface="Arial"/>
              </a:rPr>
              <a:t>NUCLEIC ACIDS - STRUCTURE AND FUNCTION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Learn Denaturation and Renaturation of DNA in 3 minutes."/>
          <p:cNvPicPr/>
          <p:nvPr/>
        </p:nvPicPr>
        <p:blipFill>
          <a:blip r:embed="rId2"/>
          <a:srcRect l="0" t="25558" r="0" b="0"/>
          <a:stretch/>
        </p:blipFill>
        <p:spPr>
          <a:xfrm>
            <a:off x="123840" y="1082520"/>
            <a:ext cx="8896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ibonucleic acid - R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single chai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lecul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ibonucleotide contains the pentose sugar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ibo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stead of thymine, the pyrimidine base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 represen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</a:rPr>
              <a:t>Types of RN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5" descr="Types of RNA | BioNinja"/>
          <p:cNvPicPr/>
          <p:nvPr/>
        </p:nvPicPr>
        <p:blipFill>
          <a:blip r:embed="rId1"/>
          <a:stretch/>
        </p:blipFill>
        <p:spPr>
          <a:xfrm>
            <a:off x="0" y="2019240"/>
            <a:ext cx="91440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2" descr="Functions Of Mrna Rrna And Trna – Otosection"/>
          <p:cNvPicPr/>
          <p:nvPr/>
        </p:nvPicPr>
        <p:blipFill>
          <a:blip r:embed="rId1"/>
          <a:stretch/>
        </p:blipFill>
        <p:spPr>
          <a:xfrm>
            <a:off x="1182600" y="0"/>
            <a:ext cx="677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01760" y="2362320"/>
            <a:ext cx="4038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quence of DNA molecules that carries information for the synthesis of a functional produ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enes are distributed along the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5335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NE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 of hereditary in a living organi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7" descr="What Are Genes Made Of? Genes are segments of the DNA sequence | MelixGX"/>
          <p:cNvPicPr/>
          <p:nvPr/>
        </p:nvPicPr>
        <p:blipFill>
          <a:blip r:embed="rId1"/>
          <a:stretch/>
        </p:blipFill>
        <p:spPr>
          <a:xfrm>
            <a:off x="4710240" y="236232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Gene structure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51920" y="1980720"/>
            <a:ext cx="4419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pends on the arrangement and order of the 4 types of nucleotides (A type, G type, C type, T type of nucleotid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7" descr="DNA, Genes &amp; Chromosomes Overview"/>
          <p:cNvPicPr/>
          <p:nvPr/>
        </p:nvPicPr>
        <p:blipFill>
          <a:blip r:embed="rId1"/>
          <a:stretch/>
        </p:blipFill>
        <p:spPr>
          <a:xfrm>
            <a:off x="4952880" y="152280"/>
            <a:ext cx="38530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990720"/>
            <a:ext cx="4114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aic structure of genes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ones and intron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r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oding reg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reg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RNA%20senthesis%20processing"/>
          <p:cNvPicPr/>
          <p:nvPr/>
        </p:nvPicPr>
        <p:blipFill>
          <a:blip r:embed="rId1"/>
          <a:srcRect l="0" t="0" r="0" b="75722"/>
          <a:stretch/>
        </p:blipFill>
        <p:spPr>
          <a:xfrm>
            <a:off x="1219320" y="4876920"/>
            <a:ext cx="5943600" cy="144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Gene — Definition &amp; Role in Inheritance - Expii"/>
          <p:cNvPicPr/>
          <p:nvPr/>
        </p:nvPicPr>
        <p:blipFill>
          <a:blip r:embed="rId2"/>
          <a:stretch/>
        </p:blipFill>
        <p:spPr>
          <a:xfrm>
            <a:off x="4572000" y="976320"/>
            <a:ext cx="44845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Size of the ge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s average length is around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600-18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ase pairs (b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Single nucletide size is 0,34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Number of gen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 international research effort called the Human Genome Project, which worked to determine the sequence of the human genome and identify the genes that it contains, estimated that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humans have between 20,000 and 25,000 gen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very person has two copies of each gene, one inherited from each par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7" descr="Gene Comparisons | BioNinja"/>
          <p:cNvPicPr/>
          <p:nvPr/>
        </p:nvPicPr>
        <p:blipFill>
          <a:blip r:embed="rId1"/>
          <a:stretch/>
        </p:blipFill>
        <p:spPr>
          <a:xfrm>
            <a:off x="441360" y="4103640"/>
            <a:ext cx="82296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 alleles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 forms of the same gene ar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e all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 alleles are caused by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ut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s that have never mutated are monomorphic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s that have mutated are polymorphic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hum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28% of genes are polymorp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72% of genes are monomorp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6.7% of genes are in the heterozygou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71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5000" spc="-1" strike="noStrike">
                <a:solidFill>
                  <a:srgbClr val="04617b"/>
                </a:solidFill>
                <a:latin typeface="Calibri"/>
              </a:rPr>
              <a:t>Human gen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Genes and Chromosomes - Fundamentals - MSD Manual Consumer Version"/>
          <p:cNvPicPr/>
          <p:nvPr/>
        </p:nvPicPr>
        <p:blipFill>
          <a:blip r:embed="rId2"/>
          <a:stretch/>
        </p:blipFill>
        <p:spPr>
          <a:xfrm>
            <a:off x="1517760" y="1031760"/>
            <a:ext cx="61084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Genetic Polymorphism in Drug Metabolism – CYP450 Isoenzymes - ppt download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the set of genes in an organi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the set of genes in a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combination of gene alleles that determines a trait (A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m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set of genes in a haploid chromosome s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h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set of characteristics of an organism that result from the interaction of genotype and environmental facto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Pseudogenes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and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gene famil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Pseudogenes - gene-like sequences (20,000 pseudogenes in the nuclear genom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Gene family - genes with similar nucleotide sequences located on different chromosomes and determining the same property (the Ig gene family on chromosomes 2, 14, 2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Haplotype - genes located on the same chromosome and determining the same property (genes for the HLA system on chromosome 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tochondrial genom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ochondrial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nome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nuclear gen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contains 16.569 bp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000. 000. 000 n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ircular chromosome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histon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histo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parative mechanisms are slower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fficient repar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ains only exons (on introns)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aic structu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ach cell contain 1000’s of copies of mtDNA               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py of nuclear DN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t codes for 37 genes, contains 22 tRNA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 rRNA gen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genes provid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for making protei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0520" y="91404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mtDNA ha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unique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genetic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 co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rom nuclear co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GА and AGG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rgin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 mtDNA are stop codon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op cod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 mitochond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yptoph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st of the proteins needed in the mitochondria are synthesized in the cytopla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itochondrial genes determine phenotypic traits - maternal inheritan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uromuscular diseases are often the result of mtDNA mutation and are maternally transmitt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oxyribonucleic acid - D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ies information for protein synthesis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the ability to periodically chang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the ability to self-reproduce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s why it is labeled as a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ereditary subs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ary structure of the DNA molecule was proposed by Watson and Crick in 195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NA molecule consists of two polynucleotide chains of complementary structure that are spirally wrapped around each other and connected by hydrogen bon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Basic building unit 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ucleotid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A nucleotide consists of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deoxyribos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pentose sug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hosphate groups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sr-Latn-CS" sz="2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nitrogen bases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 purine or pyrimid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ithin one chain, nucleotides are interconnected by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phosphodiester bon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type of base, we distinguish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4 types of nucleotid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3808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bonds are formed between the complementary bases of the two opposite strands of the DNA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amount of guanine is equal to the amount of cytosine, and the amount of adenine is equal to the amount of thymine - that is, the quantity of purine is equal to the quantity of pyrimidine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Chargaff's rule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951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4760" y="4114800"/>
            <a:ext cx="2971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Hydrogen bond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3" descr="DNA2"/>
          <p:cNvPicPr/>
          <p:nvPr/>
        </p:nvPicPr>
        <p:blipFill>
          <a:blip r:embed="rId1"/>
          <a:stretch/>
        </p:blipFill>
        <p:spPr>
          <a:xfrm>
            <a:off x="4648320" y="3505320"/>
            <a:ext cx="2895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Types of DNA sequences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Single copy sequences (unique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have one copy, functional, responsible for the synthesis of polypept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Middle repetitiv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10-10 000 x) sequences - functional, responsible for the synthesis of tRNA and rRNA. And mRNA for histone synthe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ighly repetitive sequence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repeated over 10 000 times - are not functional, satellite DNA in the centromere region of the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7.1 – 7.2 | darlagjames"/>
          <p:cNvPicPr/>
          <p:nvPr/>
        </p:nvPicPr>
        <p:blipFill>
          <a:blip r:embed="rId2"/>
          <a:stretch/>
        </p:blipFill>
        <p:spPr>
          <a:xfrm>
            <a:off x="870120" y="749160"/>
            <a:ext cx="7403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Denaturation and renatur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heating the medium on which the DNA molecule is located, the hydrogen bonds are broken and the chains are separated -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enat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gradually cooling the medium, hydrogen bonds and the helicoidal structure are re-established -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enat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NA hybridiz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a method for assessing genetic similarity between distant species, and in molecular genetics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Microsoft Office User</cp:lastModifiedBy>
  <dcterms:modified xsi:type="dcterms:W3CDTF">2022-10-31T12:59:42Z</dcterms:modified>
  <cp:revision>116</cp:revision>
  <dc:subject/>
  <dc:title>2-Humani genom</dc:title>
</cp:coreProperties>
</file>